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shiphorn.wav" ContentType="audio/x-wav"/>
  <Override PartName="/ppt/media/oldcarhorn.wav" ContentType="audio/x-wav"/>
  <Override PartName="/ppt/media/lzipup01.wav" ContentType="audio/x-wav"/>
  <Override PartName="/ppt/media/bserie06.wav" ContentType="audio/x-wav"/>
  <Override PartName="/ppt/media/jetflyby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2697-2030-4CD2-8B67-CA71F332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6D8-1D80-4E42-B429-57A35040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05C4-10A6-4080-BF39-6EE05DBF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1A50-48B2-422B-8212-C19D7CAE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95F-186F-473F-ACCD-DB0B40F5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8BB-EE8C-4D61-9118-C71A0088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1ED4-F811-47E6-A4C4-91075786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FEA-F0C9-4B85-9876-9A3B2555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7A07-5970-4914-B5F2-F152C2BD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E91F-A63F-4F7C-8A1B-CBFAE384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714-4F33-4A96-8D75-B06D4E2F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575-D69F-4797-854A-A31B8AC7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D7B2-B0F4-4F25-ADBF-9A2799B54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shiphorn.wav"/><Relationship Id="rId3" Type="http://schemas.openxmlformats.org/officeDocument/2006/relationships/audio" Target="../media/oldcarhorn.wav"/><Relationship Id="rId4" Type="http://schemas.openxmlformats.org/officeDocument/2006/relationships/audio" Target="../media/bserie06.wav"/><Relationship Id="rId5" Type="http://schemas.openxmlformats.org/officeDocument/2006/relationships/audio" Target="../media/oldcarhorn.wav"/><Relationship Id="rId6" Type="http://schemas.openxmlformats.org/officeDocument/2006/relationships/audio" Target="../media/bserie06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hiphorn.wav"/><Relationship Id="rId2" Type="http://schemas.openxmlformats.org/officeDocument/2006/relationships/audio" Target="../media/oldcarhorn.wav"/><Relationship Id="rId3" Type="http://schemas.openxmlformats.org/officeDocument/2006/relationships/audio" Target="../media/bserie06.wav"/><Relationship Id="rId4" Type="http://schemas.openxmlformats.org/officeDocument/2006/relationships/audio" Target="../media/oldcarhorn.wav"/><Relationship Id="rId5" Type="http://schemas.openxmlformats.org/officeDocument/2006/relationships/audio" Target="../media/bserie06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hiphorn.wav"/><Relationship Id="rId2" Type="http://schemas.openxmlformats.org/officeDocument/2006/relationships/audio" Target="../media/oldcarhorn.wav"/><Relationship Id="rId3" Type="http://schemas.openxmlformats.org/officeDocument/2006/relationships/audio" Target="../media/bserie06.wav"/><Relationship Id="rId4" Type="http://schemas.openxmlformats.org/officeDocument/2006/relationships/audio" Target="../media/oldcarhorn.wav"/><Relationship Id="rId5" Type="http://schemas.openxmlformats.org/officeDocument/2006/relationships/audio" Target="../media/bserie06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bserie06.wav"/><Relationship Id="rId4" Type="http://schemas.openxmlformats.org/officeDocument/2006/relationships/audio" Target="../media/jetflyby2.wav"/><Relationship Id="rId5" Type="http://schemas.openxmlformats.org/officeDocument/2006/relationships/audio" Target="../media/bserie06.wav"/><Relationship Id="rId6" Type="http://schemas.openxmlformats.org/officeDocument/2006/relationships/audio" Target="../media/jetflyby2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bserie06.wav"/><Relationship Id="rId9" Type="http://schemas.openxmlformats.org/officeDocument/2006/relationships/audio" Target="../media/jetflyby2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roperties of Addition and Multi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506680" y="2655720"/>
                <a:ext cx="39592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833400" y="1351080"/>
            <a:ext cx="729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entury"/>
              </a:rPr>
              <a:t>Commutative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2572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"/>
              </a:rPr>
              <a:t>Ad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590920" y="4129200"/>
                <a:ext cx="3789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0" y="349884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"/>
              </a:rPr>
              <a:t>Multi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roperties of Addition and Multi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008000" y="2571840"/>
                <a:ext cx="69566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833400" y="1351080"/>
            <a:ext cx="729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entury"/>
              </a:rPr>
              <a:t>Associative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02572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"/>
              </a:rPr>
              <a:t>Ad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9884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"/>
              </a:rPr>
              <a:t>Multi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07960" y="4219560"/>
                <a:ext cx="58802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roperties of Addition and Multi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098880" y="2655720"/>
                <a:ext cx="2771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833400" y="1351080"/>
            <a:ext cx="729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entury"/>
              </a:rPr>
              <a:t>Identity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02572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"/>
              </a:rPr>
              <a:t>Ad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9884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"/>
              </a:rPr>
              <a:t>Multi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192480" y="4303800"/>
                <a:ext cx="26017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Name the property shown by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81160" y="1395360"/>
                <a:ext cx="79182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23954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entury"/>
              </a:rPr>
              <a:t>Assoc. Prop. of Ad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19240" y="3344760"/>
                <a:ext cx="44114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420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entury"/>
              </a:rPr>
              <a:t>Id. Prop. of Ad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52360" y="5024520"/>
                <a:ext cx="46944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0" y="58960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entury"/>
              </a:rPr>
              <a:t>Comm. Prop. of Mul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Name the property shown by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17440" y="1411200"/>
                <a:ext cx="74660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0" y="23954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entury"/>
              </a:rPr>
              <a:t>Assoc. Prop. of Mul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16000" y="3344760"/>
                <a:ext cx="41846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420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entury"/>
              </a:rPr>
              <a:t>Id. Prop. of Mul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77920" y="5052960"/>
                <a:ext cx="55418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4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58960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entury"/>
              </a:rPr>
              <a:t>Comm. Prop. of Ad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Complete each using the proper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54040" y="1541520"/>
                <a:ext cx="55436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81040" y="2782800"/>
                <a:ext cx="78058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122720" y="1589040"/>
                <a:ext cx="5666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537160" y="2857680"/>
                <a:ext cx="6238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18960" y="4181400"/>
                <a:ext cx="8825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___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851520" y="4238640"/>
                <a:ext cx="5144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3120" y="5524560"/>
                <a:ext cx="58262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  <m:r>
                      <m:t xml:space="preserve">×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100400" y="5586480"/>
                <a:ext cx="5670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382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45, 2 – 6 #1-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47, 2 – 7 #1-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4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9-02T17:15:31Z</dcterms:modified>
  <cp:revision>64</cp:revision>
  <dc:subject/>
  <dc:title>Slide 1</dc:title>
</cp:coreProperties>
</file>